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3E1-879E-4E25-8F5C-6FBDFC41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2051-7C41-4FC9-9FCC-54181836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CFAC2-9689-419A-880C-DF7B78E3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FC1D2-5F95-467F-B5D8-BDB86DF1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6C26B-E78F-447E-9F73-88DF985A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41A41-3E93-4210-BAF0-59719526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A444A-CD5C-454F-80E0-2D0DA498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68BDC-C53E-4970-A63D-8BBB3443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F8E61-0F8C-4275-99B1-5403E130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05EE4-92FC-4D1D-B086-597E00CC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79F40-4EE8-4C36-9AB1-DE317321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C095B-C389-4CD7-8B62-05CDFD80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5E2-8E2E-4DDA-9B3A-3CF36190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E993E-9903-4D18-88C6-5D47A915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95626-4B2E-4B9E-98D5-7C6EFB0D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4B1FC-96ED-495B-A51D-EF506AB5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297DD-E3E5-468C-8A3F-5F76809B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B9230-2900-4913-A348-758459EC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73FD3-0CB8-47EF-A2B0-2DC1D3C2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4513E-5944-4C79-8C03-D7C1D4B8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16B9C-16FC-4B73-B1A9-DD2E5498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4D5CD-A16B-40DF-BEF6-D7518B90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5D948-F67C-429F-B188-210716FA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DC6-0DC1-4412-A2DD-FF2FCF5B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08CEB-BEC0-4A1F-8D48-873C731D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7F41A-C3A2-47FB-9E57-70FCA574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C3281-732D-4DAE-864D-EA1B39F8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EA3F3-1095-4F97-9474-D7A0AE65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D319F-39B6-4B12-9B9F-5BABE5D0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FDFF5-624D-4AD2-A392-34427185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8CF80-6CA1-4E05-81ED-423C8A9A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559A1-D410-41AC-BAA2-04C979F8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19623-376A-42D1-893C-0F9E401F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EEFF3-2A4D-422E-9E8F-E85DE8B9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0085-3571-431D-862C-6B4A6143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503EF-5844-44BB-812B-CA5E1ABE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4D837-02AA-4C90-9086-DD3C0122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BFBE2-4446-417C-95F6-17892974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7EA3B-D27A-4D8F-BB30-555A1677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F3E14-A964-4AF5-A356-4BD33CC3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5885D-FE6E-45AC-9F88-B4EE3A23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E1E8C-A2C5-41AF-8BE7-71C72536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7631F-1030-41DE-9C31-EE87D95F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08494-D9DC-4699-96F7-42862451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B7122-761A-4A9A-ABA4-117F37F6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BF6D-8F40-4D89-A212-9E33AAB4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36681-4ECF-4078-B862-595B6461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359FC-73D0-4A98-9E28-EF61D6C6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71E6A-11ED-454E-A04B-EBB22DB7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3056E-392E-424C-AD45-4F4EBDE8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50836-A0DC-436B-A862-E5BEEA23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7EE72-41CE-41BC-874A-8A9EBAB0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9C900-1851-4CCC-8FC7-00C606AB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E6E53-BFA1-42CC-AF97-3C292FCF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6B987-14EF-4FB4-A844-C2282D90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ED0D4-B687-4CB6-8349-382C8A3B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4AEC-7C99-4C30-A30A-AC2B1AFD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B2EFF-317E-4226-BA3F-911CE81D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5BC7A-9A1A-4500-B279-812E3BBF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B8CB5-CCD7-4A5A-A3F0-8B5E9BC9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75EA5-A942-425A-92D9-0FB71F3A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FCBF9-643C-4105-AB4D-0D176273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9F5BF-6CAA-48CA-B021-8A1158A2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08D70-6FA8-4ED0-91D7-2CAFD73D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84CD4-D74A-44A3-8F9C-88306156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A0F47-CA02-43E0-BC4D-06812C7B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68E03-C3F8-4FC7-956E-1ECDD779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09F3-3E07-4E94-ACBB-D80ED6DA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438F7-ECAA-429D-A94E-25DAB913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58E9D6-22CC-4FDF-A2F6-D42E5529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E2375F-DEE9-4582-B432-38E02B90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9F4E1-2751-4AF4-9459-A9B4517F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35908-3F06-417F-9795-481CB6F7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F51102-6CF3-4A92-AA13-30399140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3C9EE-96C8-4284-A20F-14433261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A5017-2FBE-4B58-B8C4-4238BF63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6E4CE-9479-42B8-B717-C93FD32D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FB072-6230-4BA0-8F57-2373BE32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2482-630B-4CB3-BC4E-D7D6E3C6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AA086C-1CDA-4B73-9963-9E81F951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AC015-8E22-482B-BE32-46F96D2E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B8C8F6-17C0-468C-ADE3-9A5DC1BE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8D3280-F272-4FF8-B868-5AED11EB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98333-F9F2-449B-9911-891952DD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879446-EB61-4B70-8FBA-6B875C8A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B33A0-8076-4763-8059-1063F8EC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F9456E-C4E8-46C5-B639-E6E2750B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3C046E-7625-4F66-9FD9-AD57F9BE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3CA38-6916-4A1E-88D6-0C2CDB0D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1BE1-331D-4A8C-9D71-FFC80535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77991D-54F2-4820-A3C5-46B12A1A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36EBF7-71A2-4FE3-8BA8-E0731FC6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76027A-4398-4846-A97C-F016C599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DC3972-9A9A-4D3F-AA68-8AF96435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190A34-09C9-4279-A61D-0B379B64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D7A8B-FFA8-4BE1-B10F-3C8ED76A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6A82F-497B-4F1A-BD58-13CC0DDD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C3565-D775-4E77-9A76-F3548189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2919DC-EAD2-4E85-A1A3-292AC13E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CDA19-72AB-407F-9097-1B2A4BBD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F957-F634-4123-8FBA-A96603C8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AFAAE3-6044-4200-89FA-24336686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C0857-68BB-4C4A-90E9-C57213EA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1826DF-69FD-4890-8A5E-BCED22E5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6C61F-9ACF-44F1-976C-46E4B449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E325D8-3C42-45AE-8F21-0878D5F6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DB0C66-3DB8-4A02-9BA6-82164E4E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4AC340-A655-4E28-8BD9-5D0E435D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092B9A-C861-4D4E-98F9-8CFC4C16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E6034C-0020-4D39-B6BC-4493F5A6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4ECFBF-C870-42B8-9C32-EF18BC4D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8E2-266A-428B-9463-7DD74612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BE97-5480-44A4-AA72-1AC883D5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D56D1A-C396-4CCF-BAD0-C893F95A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E91A24-C5C1-493C-AD00-F110B047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72CD6B-1CFF-41DC-BB2C-D46B5E45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F65381-B2AF-4C66-B4BE-1D62F05F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C427D0-44BE-419F-B2F2-1689A026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3F93D9-32BA-4ACD-8E05-3757D9B9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43221-F0B7-4C0D-81DC-0C4FB8FA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08722B-94E5-4980-AA07-C31F273D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668354-2D25-4068-9DDD-6E9F4446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59782-B3D8-403F-BF1F-022FB0AF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6E7E-70DB-4245-8FEB-6FF89161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46104F-3E5B-41A1-A416-B7F017DB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B29237-EA62-45C9-9667-89AD73AB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321D47-D068-4F8B-BA90-5E45A451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B0D455-C4AF-434B-AEE2-7B5E5EDF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C629A9-76EF-455F-A01B-4EE0E59F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4CA802-31DE-4B5A-8701-BA8FDDBC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1ADE5B-19BE-48EA-8CFD-5C19371C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0AE286-5DC8-4DDD-8042-B03AFBE9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2A06EE-2617-4273-9991-7BCA90D4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EF9497-8F19-454C-820C-C46060FD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1A63-5BF0-45F3-A7CB-A847BC9A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3F1CBF-B2B4-489F-B6D1-04BAF12A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0B443D-E188-4E81-9102-2B252684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A47B46-E11B-4292-8B50-CF1BA201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E9BD20-187A-42BA-B17E-7D16160C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2F6959-A143-4408-84D6-1C32DD41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718040-00C7-490E-93C2-BFF1BF19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A27B43-0A96-47D0-9100-EF92632B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66C61F-1208-4BC3-895F-3E701224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24488-D44F-418B-A0C6-CB94EC1D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6760A8-2D00-463F-B985-D12810FD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F9C1-7A7D-4AF4-BC21-3C7C6445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97AEBD-76E7-45E5-8337-6D3E3477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C856CB-A875-4BA6-AB42-8B26FCF3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CE07FB-4673-4981-A93F-464D6B34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1D0086-FB0A-4E5F-8E19-F4779CD4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3117A8-2C4A-4E18-A4B4-22B5F0A3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505740-E7A8-47EE-A3E5-FAA1B6CA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C5C9D3-DC93-4CE5-8D64-FF88C953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E832F-06C4-49C1-AA17-4539D629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31FA8A-34D0-4897-BE93-5BAED1E6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5ADEA5-32F6-4FBF-B6BD-CBCA1E9E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3EAC-55B8-4A70-A661-EA7088CB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6AAE46-CA8E-44A2-A431-FA45466C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243215-C239-42A6-9747-8495BF0E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8AC24D-F6F8-49DA-89AE-2B84859D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DC36EF-9DA7-4470-97DA-3534668D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E9EEF2-CE17-465E-BFA1-2CD07726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ED871B-A271-4714-8608-F1EE4976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5F5450-4F03-42B5-AC37-F649EE0D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3FC928-4D1B-470E-A4E9-A6F25D37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9053B8-4FCF-43A3-978A-88D8CEAA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113381-02D2-402E-8B4B-FDC438C6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B7F7B-E072-4387-9277-9FF7346D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905D36-E4FB-4194-B3F7-46E364B1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DC77DA-98D8-4C94-82F1-BBC9C9D7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7033EC-1708-4D47-B5EE-7B855BF2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636B3-3E01-4379-BAF2-CB3F275E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EFF4E-C84B-4816-9E66-0B8A2294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36BB-C8E1-4590-9540-2230BEB0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886B1-EBE7-4174-8F4B-F14B573B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970-7316-464B-BDF8-0F840029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B5933-E862-4D71-9BF6-31E03F7F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A16DF-3368-4256-8822-F20C71AC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800CC-DFB5-41CC-B3AB-CF059F91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45ECD-3C92-47AE-8D7F-2FE69865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C74E2-5C33-4D83-B862-90483DF2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C3DA1-A2AD-4033-8729-B145D7C8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A27C6-FE04-4B4D-BD28-EC693C61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CF819-3318-48F3-A5AA-64401086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BC608-2A56-4C2A-B883-D76499AD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25574-FFF3-42EB-BC98-494A1714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CCE-B93D-427B-85A0-64FE8897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E7055-01D0-45E2-B388-846A2E57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91476-FD9D-49F9-93E3-40523632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10554-D4B0-4481-B0A8-42981B92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CC471-CD47-4F5F-B483-E906485E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E8269-745A-4212-94C2-78970163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CB0B6-7F36-4218-A6C4-1E5663B0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A83A5-A3D3-48F9-8DD6-E8152345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57783-A50A-48CB-86E6-E643D4BF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82183-8F34-4704-A7AD-7073DB8B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03D89-8709-4995-8C2A-8102D6AB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4C8-68E7-4501-BA05-0EB905B4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A6D55-0A42-4E6F-B051-19BE12DC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65100-FFD9-49E9-8A0C-A2BCF208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A7243-36C9-4C89-B6ED-05113B86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F1BED-A332-4749-9EEA-CE2C8253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F56AB-0AB4-470F-85CF-B8B7BCF5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9539D-E4D2-4BFB-8B06-E6C40186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4FBBB-D9A2-4278-808B-6A05DEBB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071C2-88EF-4D9A-A341-F34C43E2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0F583-1BD9-43A7-8EBE-AAE42CFC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C943A-2ED7-4B10-8033-722460A6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226E-256D-4842-A06A-2FD16585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80C4A-7C2A-4308-A72E-B3E7637C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C72D8-479B-4386-AA20-EEF02775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73C4C-D08A-4256-97AD-FA92A877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E5295-476C-4E90-8D85-009DB10B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53C78-61D5-472D-A312-A21DA7C6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8D4F2-3E65-442A-A4A3-44CE0744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C851A-AAB7-49C3-BD9F-A7145023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6B0CD-EFFD-4FCC-A7C4-F8C9A1A8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7E304-602A-45E5-B2F3-6C26C20B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E9AF4-70B3-485F-A4AF-7461B1DA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885-598A-4532-B6B9-02EE146A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BEC26-9DA5-4BF8-96C8-72B6D8A6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C7381-15DE-40E9-893C-03907EEE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61C4A-5B13-4253-B9FF-8253E189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B3559-678B-4B40-87FD-052EED3D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881B2-97D7-496F-A2EC-C10DC160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18ACF-95CF-423A-89EC-D4C11A3D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0F572-2F3B-4FBB-ABD2-7F73D847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31C38-0562-41FC-9B18-3FAE0CCD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D6CBA-E31E-4343-9A5F-3558168F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20F68-6B3B-480B-A8FB-23A22084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98A-0978-401D-A062-BDE64958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9D68D-A557-40FB-9F75-957F2FDA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76632-D060-4C25-8D74-5A8DFC43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277DE-FAB9-47DE-883B-3E01A220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2F310-3DCB-4F76-BE3B-CC42A2F5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8FC54-E13A-4C59-BD43-D6EC0770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7F394-62AC-40EE-96B8-70425369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6C0D7-626F-4DE8-9C74-F4582C23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941BB-77FB-4267-9B6B-B2A97DFA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4964A-9CE9-47D6-9326-0411369F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07F45-714A-4C3D-B8AE-343038C6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49D-0F94-42C9-B2F9-E98B702D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CBED4-1FF5-4527-B3F0-A0517A22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F14A5-2FE9-4C64-9088-6966D59F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06723-545E-41DF-9C8D-4016B982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EE3C2-F333-49F0-8C29-1BF95999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2F9AE-61EE-4EBB-B0D3-20497663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E6A9F-4690-4949-8648-B2E9500A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E0B4C-0BB1-4334-8F27-EB9B8CB7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5CB9E-046D-4F4E-B600-8C45159F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FF5FD-ACC7-42F5-9D6A-716F985F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0AA63-3E03-4595-9CE0-C249222C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CECC-C2C8-4415-9222-59534A8A1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054A-B5A3-4FD9-B9CA-679704964A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1AFF-9BFA-40B3-8A08-0519D28F76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F461-F1CF-4CFA-9C26-1AD60908D2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B45A-05C3-427A-BA33-6E4E04D221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E243-BBDB-460E-8EBB-C3D829E20D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D83E-0AA6-4FEA-B3BE-1F3D649F48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A8CC-28A9-422F-803D-9843B970FC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ADD5-D3DF-489B-A5B4-36783B566D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DD62-FE10-48FF-BFBD-7AA8038E55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4151-562A-42D0-94BE-F16B1004E0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8485-25F2-4CBA-81C1-52323AEE61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A2D1-7053-4FB3-B68B-FAB6D4FDE0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2C05-3CEA-4D45-ACCA-BF52F4ECF5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FAF1-83F2-4A51-9FA3-1012AAF537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C3BA-39F5-48A4-871C-44AD1C6A50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799D-4F33-4871-B134-B6D3E5D66A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6378-D374-4AF1-95F1-0E797E2203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B380-B96B-4CE1-B03D-18355310A5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7C57-EB68-4777-8A5C-B0F620F1B2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1193-AF49-49BF-8EF4-33BD3E2E2B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8908-F0B7-4C9E-8537-879369A709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787B-D048-44F5-AA2C-5937013E32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4A42-B6ED-4C16-A989-FD653E9CD1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B04B-7810-4FF3-8403-EF7AB7D41C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C0CD-50B4-4081-85B8-49310B2A66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39AC-7C41-4DE9-A676-D2BA3C0F88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7FD3-A1CC-47F2-B333-8F2DA59F8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C02E-624E-49F5-A6C4-69C921E3F5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EDB9-629D-447D-81FA-C16E1B8425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AE00-5ABD-4E79-897B-DFE4AD78B5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430B-9C41-4929-9BDA-45B00667AE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040E-5E1F-44B3-96EA-FAC247721A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DEAC-1B59-4755-9E41-5044C3B89D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7122-9089-4844-B812-8982089AA5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7993-A375-4C9E-85B1-03C455382B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A51F-3A6D-488A-A142-DBB5A841BF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5493-A59B-44D3-914D-C607002F1E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B715-D2AE-4A47-8734-98E432AAE5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C29F-B55E-497E-814E-ED76ED2C23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938320" y="1517760"/>
            <a:ext cx="3267360" cy="104760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749160" y="2698920"/>
            <a:ext cx="7475760" cy="116172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3075" descr=""/>
          <p:cNvPicPr/>
          <p:nvPr/>
        </p:nvPicPr>
        <p:blipFill>
          <a:blip r:embed="rId3"/>
          <a:stretch/>
        </p:blipFill>
        <p:spPr>
          <a:xfrm>
            <a:off x="755640" y="4040280"/>
            <a:ext cx="76294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图片 1" descr=""/>
          <p:cNvPicPr/>
          <p:nvPr/>
        </p:nvPicPr>
        <p:blipFill>
          <a:blip r:embed="rId1"/>
          <a:stretch/>
        </p:blipFill>
        <p:spPr>
          <a:xfrm>
            <a:off x="1566720" y="690480"/>
            <a:ext cx="6010560" cy="54770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2757600" y="210348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2" name="图片 1" descr=""/>
          <p:cNvPicPr/>
          <p:nvPr/>
        </p:nvPicPr>
        <p:blipFill>
          <a:blip r:embed="rId1"/>
          <a:stretch/>
        </p:blipFill>
        <p:spPr>
          <a:xfrm>
            <a:off x="95400" y="1671480"/>
            <a:ext cx="8953200" cy="3515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2"/>
          <a:stretch/>
        </p:blipFill>
        <p:spPr>
          <a:xfrm>
            <a:off x="1403280" y="3255840"/>
            <a:ext cx="5832720" cy="44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3"/>
          <a:stretch/>
        </p:blipFill>
        <p:spPr>
          <a:xfrm>
            <a:off x="1332000" y="4653000"/>
            <a:ext cx="5832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图片 1" descr=""/>
          <p:cNvPicPr/>
          <p:nvPr/>
        </p:nvPicPr>
        <p:blipFill>
          <a:blip r:embed="rId1"/>
          <a:stretch/>
        </p:blipFill>
        <p:spPr>
          <a:xfrm>
            <a:off x="423720" y="1771560"/>
            <a:ext cx="8294760" cy="33148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2"/>
          <a:stretch/>
        </p:blipFill>
        <p:spPr>
          <a:xfrm>
            <a:off x="900000" y="2463840"/>
            <a:ext cx="7775640" cy="449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3"/>
          <a:stretch/>
        </p:blipFill>
        <p:spPr>
          <a:xfrm>
            <a:off x="755640" y="3141720"/>
            <a:ext cx="7775640" cy="4492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4"/>
          <a:stretch/>
        </p:blipFill>
        <p:spPr>
          <a:xfrm>
            <a:off x="826920" y="4565520"/>
            <a:ext cx="7775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1" descr=""/>
          <p:cNvPicPr/>
          <p:nvPr/>
        </p:nvPicPr>
        <p:blipFill>
          <a:blip r:embed="rId2"/>
          <a:stretch/>
        </p:blipFill>
        <p:spPr>
          <a:xfrm>
            <a:off x="190440" y="2043000"/>
            <a:ext cx="8763120" cy="27720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2411280" y="285264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6588000" y="2852640"/>
            <a:ext cx="223200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1979640" y="354492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6"/>
          <a:stretch/>
        </p:blipFill>
        <p:spPr>
          <a:xfrm>
            <a:off x="6588000" y="3543480"/>
            <a:ext cx="1584360" cy="4489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7"/>
          <a:stretch/>
        </p:blipFill>
        <p:spPr>
          <a:xfrm>
            <a:off x="2570040" y="423540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8"/>
          <a:stretch/>
        </p:blipFill>
        <p:spPr>
          <a:xfrm>
            <a:off x="6948360" y="4235400"/>
            <a:ext cx="1584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247680" y="1338120"/>
            <a:ext cx="8648640" cy="4181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332000" y="285264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1258920" y="35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1258920" y="4221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538200" y="1033560"/>
            <a:ext cx="8066160" cy="47908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76360" cy="4489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547640" y="4076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图片 1" descr=""/>
          <p:cNvPicPr/>
          <p:nvPr/>
        </p:nvPicPr>
        <p:blipFill>
          <a:blip r:embed="rId1"/>
          <a:stretch/>
        </p:blipFill>
        <p:spPr>
          <a:xfrm>
            <a:off x="947880" y="1419120"/>
            <a:ext cx="7248240" cy="4019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3"/>
          <a:stretch/>
        </p:blipFill>
        <p:spPr>
          <a:xfrm>
            <a:off x="1332000" y="357336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1" descr=""/>
          <p:cNvPicPr/>
          <p:nvPr/>
        </p:nvPicPr>
        <p:blipFill>
          <a:blip r:embed="rId1"/>
          <a:stretch/>
        </p:blipFill>
        <p:spPr>
          <a:xfrm>
            <a:off x="428760" y="2100240"/>
            <a:ext cx="8286480" cy="26575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138240" y="1285920"/>
            <a:ext cx="8866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34920" y="1790640"/>
            <a:ext cx="8943840" cy="32767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411120" y="17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395280" y="2492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395280" y="3141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395280" y="3860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6"/>
          <a:stretch/>
        </p:blipFill>
        <p:spPr>
          <a:xfrm>
            <a:off x="395280" y="45226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图片 1" descr=""/>
          <p:cNvPicPr/>
          <p:nvPr/>
        </p:nvPicPr>
        <p:blipFill>
          <a:blip r:embed="rId1"/>
          <a:stretch/>
        </p:blipFill>
        <p:spPr>
          <a:xfrm>
            <a:off x="85680" y="1262160"/>
            <a:ext cx="8972640" cy="43336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1908000" y="2133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1979640" y="42782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4"/>
          <a:stretch/>
        </p:blipFill>
        <p:spPr>
          <a:xfrm>
            <a:off x="1908000" y="49561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0:28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